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D40-30FA-4F4C-AC73-B0A953119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BF64-30CE-4B4D-ACE1-AFD789FCB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9AB0-29EE-4BC5-B566-AE181F5E4A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8B22-AEB6-4FA0-8ABA-78B03FFE35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09F8-E5C9-4DDB-8782-CE5E30AD29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4572-FB13-4F9C-8029-CD19E8A67B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7DB3-3AC6-446B-9577-F49CBEF91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8B8-A5CF-4585-80B9-A336D438F5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30C3-8998-469D-9D24-3B2718B92F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8AE9-5373-4B69-B131-F42DAAFE78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2A2-4179-43AA-97B5-BB453C6C2E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4E9A-C67D-43D8-A1BB-DF947ADB7B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3CD5-4846-426B-BDDC-3D24E52E1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5835-7803-4BFB-ABE9-80E5E42116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F907-9BC3-4A80-8CA1-75AE0F932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B26-B77A-48E8-99DB-23801427DC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772C-1FC9-4BE5-A38B-7C5B01BD55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9CD1-8D85-453B-8E3C-4F30140497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5B36-7BF3-4535-863A-983A63E241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9D90-210C-4C3C-9EB2-C72B634EB3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1F6F-71AC-4B0F-A23F-89981E1E84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9461-E102-4460-8173-C56A21D086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3976-0921-4E5A-AEE1-797B34CD3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85D-7AD5-452A-8B1B-0F3BD65C67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12D6-D551-4E08-934D-5FF38AEF0D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B98A-F609-4389-AD50-F0FCAE23A7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1B2-4F8A-4CB9-8614-4242C7B80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980-6E6B-4E02-831B-4A0711DA8A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076-D4AC-42B0-8B09-AA81995F1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3B8-88B5-4C5E-A513-DB8B2EF618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1508-3C03-464D-949A-A7058419A2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A95-3D41-4921-80D9-8D166830D3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1A1-158B-4749-8D41-B8CEFB981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3124-96BC-4AF1-AA99-8DC25EA7A5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326D-ACA6-40DF-800B-7D0ECBA709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37AB-1785-48DF-BE8C-24D3E74D48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1E76-1201-4AF0-8D0B-05E9E982C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D6C-2FBE-4B6F-9F0C-43262E9A40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18DE-9060-40E5-AECC-B8989B7A52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903F-753C-4D28-83BB-5C0A9C34C7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7121-1783-4809-AE26-DEAEEAA9D1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32EB-B4E7-49F9-A443-32A8427D91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EFF4-146B-4D97-9C6C-EEC35E203D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81BD-C957-4961-9915-F3D19E69FD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ED9E-20B8-455D-B8A6-6000CC2AE0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18C2-8407-4A50-9655-806BD1A907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2B4-37AE-440E-A5E2-854361A7F6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EFFF-FA52-4E3D-8DC5-49BF15987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D23-0DEE-4B70-BB95-FBA913EDF0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65F0-F39A-4750-829F-04B6541BB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E328-D123-4972-804E-58C620719BB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C942-4DB7-43F0-B5F5-D33360474D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24C-60CF-4C28-B4C0-F365D198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9E0-550A-4C77-B37E-2C0CE5A3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BB0-BE40-48E0-8060-F06809C5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826-9664-4B29-A52E-109AC118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6CF-BCE9-4CA8-8272-C1A27A7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DD8-EBCA-45F8-AC6A-9F18C6AC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21F-15BC-4AC8-AE82-F5C534CA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887-D8FE-43FA-8386-CC90AFD5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959-3367-44BD-8FD6-852120A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B7D-11B8-45A4-890C-24B2CDEC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5EA-FFA5-4A16-B625-0084437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8FB-67A7-44C8-B520-B84AA58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C06F-6E27-4C2F-8E45-84AAEB01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localhost/Users/amkohnen/Dropbox/Missouri%20State/OWP/i3/Monett%20PD/2013.10.18/Criteria.docx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localhost/Users/amkohnen/Dropbox/Missouri%20State/OWP/i3/lesson%20plans%20for%20binder/Applying%20Criteria%20to%20a%20Data%20Set.docx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arkscrwp.wikispaces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3 grant: College-Ready Writ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3040" y="3889440"/>
            <a:ext cx="63979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Session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Mone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October 18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WP Icon"/>
          <p:cNvPicPr/>
          <p:nvPr/>
        </p:nvPicPr>
        <p:blipFill>
          <a:blip r:embed="rId1"/>
          <a:stretch/>
        </p:blipFill>
        <p:spPr>
          <a:xfrm>
            <a:off x="3048120" y="762120"/>
            <a:ext cx="294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our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57200" y="175248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ilently reread your response to the first prompt (one thing I’ve tried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Underline something you want to share—a maximum of on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Whip 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our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57200" y="17524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Is this the same thing as the lesson plan you brou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Lunch: 1 hour—time to connect and share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ur 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80880" y="1143000"/>
            <a:ext cx="8229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your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termine who will go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ever has the next birthday will be 1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rst person speaks for 1 min about his/he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up members, listen. Some of you will be asked to share what one of your group members has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person stops talking before time is called, group members ask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peat with person 2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7200" y="1371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lently reread your response to free-writing prompt 3 (my biggest challenge i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urn this free-write into a question you would like your group to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57200" y="13716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view the consultancy protocol (hand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3 rounds of consultanc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rief from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13716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did the consultancy work for the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should the entire group h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problems are we fac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day, please add challenges in the form of questions to the “challenges” char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80880" y="137160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trooms are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ease enjoy mor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will reconvene at 9: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you return, please form a group of 4 with entirely new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 Arguments of Ju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s of Ju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is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ed to the Believing and Doubt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ily adaptable to a variety of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s a variety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receive a lesson plan handout at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grou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some time looking at the data. You may read silently and/or discus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ind interesting? 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enjoy som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sit in groups of 3. Try to include representatives from more than one building in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ot need your computers righ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ind interes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ackle football too risky for children under 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decide if an activity is “too risky” for children under 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riteria do we use to make this judg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Criteria for Making Ju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s, work together to come up with criteria for making this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hole Class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 the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: an arguabl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s must be back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reate claims based on each of our crite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 the first Crite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rrant/Expla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 working with the remaining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with your group and fill in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have enough evidence, write “not enough evidence” and brainstorm what evidence you need and where you woul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assig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argument of judgment based on your worksheet answering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ackle football too risky for children under 1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ding to you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5720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you lik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lieving and Doub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ategies, strategies,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ime to discuss th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ime to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: Name it and Claim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7200" y="990720"/>
            <a:ext cx="82296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 it: Arguments of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im It: Claim the activity for your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ainstorm for a moment how you could “claim” this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hare with y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your Discussion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into Plan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your goal, what do you want to do in the next few wee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need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top at 12:00 to debrief the morning. Break, eat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=12: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So Fast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your lesson plan and come to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your partner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woul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source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63680" y="15238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uring this long lunch, please find at least two people to share lesson plans with.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you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ow it 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you woul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resources you hav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00 Take Away (and fun with mat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57200" y="990720"/>
            <a:ext cx="82296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ch word is worth $.10 (articles are 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 have $2.00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is your take away from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activity has a high likelihood (define?) of serious injury or death—i.e., paralysis, dismemberment, it is too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00 Take Away (and fun with mat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457200" y="990720"/>
            <a:ext cx="82296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ch word is worth $.10 (articles are 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 have $2.00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is your take away from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activity has a high likelihood (define?) of serious injury or death—i.e., paralysis, dismemberment, it is too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57200" y="99072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e will reconvene at 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57200" y="1752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ider adding your content to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ww.ozarkscrwp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llee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ea typeface="Arial"/>
                <a:hlinkClick r:id="rId1"/>
              </a:rPr>
              <a:t>Further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OWP Icon"/>
          <p:cNvPicPr/>
          <p:nvPr/>
        </p:nvPicPr>
        <p:blipFill>
          <a:blip r:embed="rId2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736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 from the Mentor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18954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 what’s happening in you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wo strategies you coul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where you want to go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609480" y="1905120"/>
            <a:ext cx="8229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urpose: to engage in an exercise featuring truisms, text structures, and kernel essays, embedded in a focused free-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purpose: to finish an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beliefs abou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belief, “truism,” tru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kernel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write a first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457200" y="17524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xt Mentor Less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can we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notebooks—who would lik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aching resources—using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room coaching/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430200" y="1219320"/>
            <a:ext cx="8408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uat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eedback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ent to use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earch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ex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ring an idea for a writing assignment/activity that you would like to try second semester. Something brand new or a major modifications to something you’ve done in the past. Bring something printed out (doesn’t have to be final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-da-bing! -- Our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r feet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saw (heard, tou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you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th?id=H"/>
          <p:cNvPicPr/>
          <p:nvPr/>
        </p:nvPicPr>
        <p:blipFill>
          <a:blip r:embed="rId1"/>
          <a:stretch/>
        </p:blipFill>
        <p:spPr>
          <a:xfrm>
            <a:off x="60199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h?id=H"/>
          <p:cNvPicPr/>
          <p:nvPr/>
        </p:nvPicPr>
        <p:blipFill>
          <a:blip r:embed="rId2"/>
          <a:stretch/>
        </p:blipFill>
        <p:spPr>
          <a:xfrm>
            <a:off x="6934320" y="2743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th?id=H"/>
          <p:cNvPicPr/>
          <p:nvPr/>
        </p:nvPicPr>
        <p:blipFill>
          <a:blip r:embed="rId3"/>
          <a:stretch/>
        </p:blipFill>
        <p:spPr>
          <a:xfrm>
            <a:off x="6095880" y="4114800"/>
            <a:ext cx="1447920" cy="127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OWP Icon"/>
          <p:cNvPicPr/>
          <p:nvPr/>
        </p:nvPicPr>
        <p:blipFill>
          <a:blip r:embed="rId4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685800"/>
            <a:ext cx="8153280" cy="73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We will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e-write about our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hare what’s been happening in 3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ork with a data set to make an argument of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nd some tim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mine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scuss mentor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rite using text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WP Icon"/>
          <p:cNvPicPr/>
          <p:nvPr/>
        </p:nvPicPr>
        <p:blipFill>
          <a:blip r:embed="rId1"/>
          <a:stretch/>
        </p:blipFill>
        <p:spPr>
          <a:xfrm>
            <a:off x="672480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Non-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858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To continue the process of reflecting and planning toward our individual and grant goals; to discuss successes and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Purpos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o solve all of our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OWP Icon"/>
          <p:cNvPicPr/>
          <p:nvPr/>
        </p:nvPicPr>
        <p:blipFill>
          <a:blip r:embed="rId1"/>
          <a:stretch/>
        </p:blipFill>
        <p:spPr>
          <a:xfrm>
            <a:off x="6724800" y="577368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th?id=H"/>
          <p:cNvPicPr/>
          <p:nvPr/>
        </p:nvPicPr>
        <p:blipFill>
          <a:blip r:embed="rId1"/>
          <a:stretch/>
        </p:blipFill>
        <p:spPr>
          <a:xfrm>
            <a:off x="5562720" y="457200"/>
            <a:ext cx="2971800" cy="223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304920" y="17524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dd your name to the sign-in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ease set cell phones to vib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eel comfortable stepping outside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th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king Lo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appreciate your name ta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OWP Icon"/>
          <p:cNvPicPr/>
          <p:nvPr/>
        </p:nvPicPr>
        <p:blipFill>
          <a:blip r:embed="rId2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art and en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bide by the protoc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enthusiastic about new writing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ideas and collaborate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vide a safe environment fo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encourage one another and respectfully acknowledge each other'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into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rand new thing 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 tried in my classroom related to writing/this PD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success so far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challeng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20:18:10Z</dcterms:created>
  <dc:creator>Colleen</dc:creator>
  <dc:description/>
  <dc:language>en-US</dc:language>
  <cp:lastModifiedBy>Angela Kohnen</cp:lastModifiedBy>
  <cp:lastPrinted>2013-10-18T10:33:29Z</cp:lastPrinted>
  <dcterms:modified xsi:type="dcterms:W3CDTF">2013-10-18T19:59:49Z</dcterms:modified>
  <cp:revision>156</cp:revision>
  <dc:subject/>
  <dc:title>i3 grant: College-Ready Writers</dc:title>
</cp:coreProperties>
</file>